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2788-C0E5-41AE-A1F6-F4940C66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2A18-399F-40E9-B37D-1ADFE62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EBF9-9A94-46CF-BA33-56DEF809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D5BD-97E3-4AF8-BC9E-75BC379B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7B5B-2312-4489-A00F-B8D3C272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2A2C-C747-480F-870A-BBDF1DE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6793-6579-455B-B606-09DD9CC6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B49-3B46-4DDA-8D53-3A72482F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10B5-EE43-41DA-BB24-CBECB050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A4A-A3C8-4518-B248-B3D67F92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F392-117D-4D08-98F6-6F33D92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4E29-B003-47C4-8B34-3D980CE2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A3C3-F85D-42EE-B8BE-33A8CF3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03FF-FCF7-47BC-8CE1-F32254E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3FF-5B48-4EAF-A495-56577280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C6C-ACD7-4738-86D1-28167DD3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598-237D-49E0-9EF9-695DC1EE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87F1-2813-42F8-BB7F-B3D5A4B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CBAB-2DB9-4DB6-ABD5-BBA0F85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F055-9E16-4C64-89F5-85DC8F47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8DD0-DA9B-4D14-B13B-F2DA820F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3E5B-C6D4-4CCB-8790-3618FE52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FBC6-CFBA-45ED-8240-66C2756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A325-0DFA-433C-A1DF-9C0727B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963A-82D9-47A5-B075-96048AF3A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D38-B335-4F1C-99FD-18C59974B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4076640"/>
            <a:ext cx="14436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1.Berki Cristina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Garamond"/>
              </a:rPr>
              <a:t>2.Bodea Claudia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Garamond"/>
              </a:rPr>
              <a:t>3.Bodea Valentin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1267920"/>
            <a:ext cx="64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e8ba"/>
                </a:solidFill>
                <a:latin typeface="Garamond"/>
              </a:rPr>
              <a:t>Prism</a:t>
            </a:r>
            <a:r>
              <a:rPr b="1" lang="ro-RO" sz="8800" spc="-1" strike="noStrike">
                <a:solidFill>
                  <a:srgbClr val="bae8ba"/>
                </a:solidFill>
                <a:latin typeface="Garamond"/>
              </a:rPr>
              <a:t>ă patrulateră dreaptă</a:t>
            </a:r>
            <a:endParaRPr b="1" lang="en-US" sz="8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95640" y="189000"/>
          <a:ext cx="442908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42908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256560"/>
            <a:ext cx="65880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8560" y="69192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emente:-v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furi:A,B,C,D,A’,B’,C’,D’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muchii:-ale bazelor:AB,BC,CD,DA,A’B’,B’C’,C’D’,D’A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laterale:AA’,BB’,CC’,DD’(sunt egale cu 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ea prismei notat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cu 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diagonala:-bazei:AC,DB,A’C’,B’D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fe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i laterale:AB’,BC’,CD’,AD’,A’B,B’C,C’D,A’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paralelipipedului:A’C,B’D,C’A,D’B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fe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e:-bazelor:p</a:t>
            </a:r>
            <a:r>
              <a:rPr b="1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laterale:dreptunghiuri congru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171880" cy="314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5120640"/>
            <a:ext cx="44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05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bazei :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lateral</a:t>
            </a: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ă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ria total</a:t>
            </a: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: 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2Ab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olum : 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2786040" cy="403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23840" cy="19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501228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915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 prisma patrulateră regulată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CDA’B’C’D’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unoaşte lungimea laturii bazei de </a:t>
            </a: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ş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A’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a  2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 muchia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A’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se ia un punct M,astfel ca AM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 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.Să se determine măsura unghiului format de planu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MBD)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 ş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BC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b.Să se determine măsura unghiului format de dreapta M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cu planu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A’B’C’).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47640" cy="2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80360" y="292428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647640" cy="28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02:04Z</dcterms:created>
  <dc:creator>owner</dc:creator>
  <dc:description/>
  <dc:language>en-US</dc:language>
  <cp:lastModifiedBy>owner</cp:lastModifiedBy>
  <dcterms:modified xsi:type="dcterms:W3CDTF">2011-02-15T18:21:40Z</dcterms:modified>
  <cp:revision>7</cp:revision>
  <dc:subject/>
  <dc:title>Diapozitivul 1</dc:title>
</cp:coreProperties>
</file>